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B67E-1BBA-4CE0-8BFA-D8A00FB46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DF0-5189-4EE0-8A73-EFCE50A92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09B5-36C1-4B37-BA65-92A9ACA20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020B-7EA9-4417-81E8-EA4F68664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0752-EBB7-4DAC-BD43-95E4FB3AC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F55-FCBD-4E73-AEB4-8DB5175F0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575-0905-4F3E-BA36-A2BEDAE83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F36-7612-4D07-8D21-16680E5A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2B1-BBF6-44C5-ADC2-064596F4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A77-2E64-4333-AAB7-2835A6EC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3F8-306A-4588-8C67-9ED38F9C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4C1-963B-4F07-9C6C-2ACE97C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DFC-FC77-4FE2-A63A-3C5B4B3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30D-745B-4118-B621-FFC001BD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14C-DE17-4511-848F-BEC3A75F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ABC-15D9-41A0-91D7-475DDE3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6C0-6408-4144-803D-C51F3E6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790-7449-4224-B2A5-61DE248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EFE-34F3-4271-8348-3BD21F5B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01B0-33C4-4851-B438-5DF4F5398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lyvision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meducation.com/files/media/ET%20TV%20files/How%20to%20write/SWF/How%20to%20write.htm" TargetMode="External"/><Relationship Id="rId2" Type="http://schemas.openxmlformats.org/officeDocument/2006/relationships/hyperlink" Target="http://www.rmeducation.com/files/media/ET%20TV%20files/How%20to%20use%20MMB/SWF/How%20to%20use%20the%20MMB.htm" TargetMode="External"/><Relationship Id="rId3" Type="http://schemas.openxmlformats.org/officeDocument/2006/relationships/hyperlink" Target="http://www.rmeducation.com/files/media/ET%20TV%20files/How%20to%20use%20glassmode/SWF/How%20to%20use%20glass%20mode.htm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active Whiteboard Set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&amp; Integration into Less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cranton H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eptember 25,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PolyVision Corporation Home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Oval 4"/>
          <p:cNvSpPr/>
          <p:nvPr/>
        </p:nvSpPr>
        <p:spPr>
          <a:xfrm>
            <a:off x="8381880" y="106668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5"/>
          <p:cNvSpPr/>
          <p:nvPr/>
        </p:nvSpPr>
        <p:spPr>
          <a:xfrm>
            <a:off x="8229600" y="12952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523880"/>
            <a:ext cx="304920" cy="30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3"/>
          <a:stretch/>
        </p:blipFill>
        <p:spPr>
          <a:xfrm>
            <a:off x="4363920" y="927000"/>
            <a:ext cx="382284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easiteach_sh1lrgimg.png"/>
          <p:cNvPicPr/>
          <p:nvPr/>
        </p:nvPicPr>
        <p:blipFill>
          <a:blip r:embed="rId4"/>
          <a:stretch/>
        </p:blipFill>
        <p:spPr>
          <a:xfrm>
            <a:off x="390600" y="1143000"/>
            <a:ext cx="38005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10"/>
          <p:cNvSpPr/>
          <p:nvPr/>
        </p:nvSpPr>
        <p:spPr>
          <a:xfrm>
            <a:off x="533520" y="2057400"/>
            <a:ext cx="8001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2285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 Board &amp; Projector in desired lo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hey will not be bum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g the cord into an open USB Port on your lap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the Webster Software from your desk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the status light to turn green on the bo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press the Projection button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 Simply press the numbers on the whiteboar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brate it and your students are ready to lear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itle 3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59" name="Oval 4"/>
          <p:cNvSpPr/>
          <p:nvPr/>
        </p:nvSpPr>
        <p:spPr>
          <a:xfrm>
            <a:off x="6248520" y="914400"/>
            <a:ext cx="304560" cy="30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5"/>
          <p:cNvSpPr/>
          <p:nvPr/>
        </p:nvSpPr>
        <p:spPr>
          <a:xfrm>
            <a:off x="6553080" y="6858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705720" y="457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7" descr=""/>
          <p:cNvPicPr/>
          <p:nvPr/>
        </p:nvPicPr>
        <p:blipFill>
          <a:blip r:embed="rId2"/>
          <a:stretch/>
        </p:blipFill>
        <p:spPr>
          <a:xfrm>
            <a:off x="49320" y="1238400"/>
            <a:ext cx="89978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3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Oval 4"/>
          <p:cNvSpPr/>
          <p:nvPr/>
        </p:nvSpPr>
        <p:spPr>
          <a:xfrm>
            <a:off x="6248520" y="914400"/>
            <a:ext cx="304560" cy="30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5"/>
          <p:cNvSpPr/>
          <p:nvPr/>
        </p:nvSpPr>
        <p:spPr>
          <a:xfrm>
            <a:off x="6553080" y="6858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6"/>
          <p:cNvSpPr/>
          <p:nvPr/>
        </p:nvSpPr>
        <p:spPr>
          <a:xfrm>
            <a:off x="6705720" y="457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, the Webster Software must always be running f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oard to operat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905120" y="2184480"/>
            <a:ext cx="5181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5419440" cy="2019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52280" y="20574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napshot: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ture a snapshot from the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yvision product. The projected computer screen and your writing are all included w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    Screen Snapsho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ture only the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computer screen as a snapsh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sc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forms the equivalent to the “ESC” keystroke in the active appli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.   Re-alig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-align the projected im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Keyboard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how and hide the on-scr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ight Click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a righ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use click, tap this button, then tap the PolyVisio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eve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veal the projected screen 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 at a time by dragging the “window shade” d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48320" y="2057400"/>
            <a:ext cx="4343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8.   Spotligh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tlight a portion of th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reen with a circle of lig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election Too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 the curs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of adding writing to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. Click to stop projection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-up and return to pointing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.  Pen Col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 up the projected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1.  Highlighte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light important ite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.  Erase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ase projection mark-up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3.  Pen Width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pen width for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-up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4.  Prin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the current image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ing the projected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reen, on the default printer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ed to the compu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easiteach_sh1lrgimg.png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-585720" y="804960"/>
            <a:ext cx="4859280" cy="3090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581280" y="1828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Interactive Version of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 but with mor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satilit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38080" y="33526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M Easiteach is cross-curricula software that can be used across a wide range of grade levels. Subject-focused toolbars for Math, English Language Arts, Science and Geography provide teachers will all of the resources they need to create compelling lessons and stimulating activities. A range of ready-made content packs are also available, with high-quality lessons developed by subject specialists in Math, Language Arts, Science, as well as a fun Games pa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w to Write on My White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ow to use the Multimedia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ow to use Glass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se Voting &amp; Po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Math Tool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Animate with Easit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 further videos, go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rmeducation.com/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easiteach_sh1lrgimg.png"/>
          <p:cNvPicPr/>
          <p:nvPr/>
        </p:nvPicPr>
        <p:blipFill>
          <a:blip r:embed="rId4"/>
          <a:stretch/>
        </p:blipFill>
        <p:spPr>
          <a:xfrm>
            <a:off x="2133720" y="304920"/>
            <a:ext cx="4800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25:02Z</dcterms:created>
  <dc:creator>Voytsnake</dc:creator>
  <dc:description/>
  <dc:language>en-US</dc:language>
  <cp:lastModifiedBy>Voytsnake</cp:lastModifiedBy>
  <dcterms:modified xsi:type="dcterms:W3CDTF">2008-01-08T13:51:31Z</dcterms:modified>
  <cp:revision>12</cp:revision>
  <dc:subject/>
  <dc:title>Slide 1</dc:title>
</cp:coreProperties>
</file>